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  <p:sldId id="273" r:id="rId40"/>
    <p:sldId id="274" r:id="rId41"/>
    <p:sldId id="275" r:id="rId42"/>
    <p:sldId id="276" r:id="rId43"/>
    <p:sldId id="277" r:id="rId44"/>
    <p:sldId id="278" r:id="rId45"/>
    <p:sldId id="279" r:id="rId46"/>
    <p:sldId id="280" r:id="rId47"/>
    <p:sldId id="281" r:id="rId48"/>
    <p:sldId id="282" r:id="rId49"/>
    <p:sldId id="283" r:id="rId50"/>
    <p:sldId id="28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slide" Target="slides/slide18.xml"/><Relationship Id="rId41" Type="http://schemas.openxmlformats.org/officeDocument/2006/relationships/slide" Target="slides/slide19.xml"/><Relationship Id="rId42" Type="http://schemas.openxmlformats.org/officeDocument/2006/relationships/slide" Target="slides/slide20.xml"/><Relationship Id="rId43" Type="http://schemas.openxmlformats.org/officeDocument/2006/relationships/slide" Target="slides/slide21.xml"/><Relationship Id="rId44" Type="http://schemas.openxmlformats.org/officeDocument/2006/relationships/slide" Target="slides/slide22.xml"/><Relationship Id="rId45" Type="http://schemas.openxmlformats.org/officeDocument/2006/relationships/slide" Target="slides/slide23.xml"/><Relationship Id="rId46" Type="http://schemas.openxmlformats.org/officeDocument/2006/relationships/slide" Target="slides/slide24.xml"/><Relationship Id="rId47" Type="http://schemas.openxmlformats.org/officeDocument/2006/relationships/slide" Target="slides/slide25.xml"/><Relationship Id="rId48" Type="http://schemas.openxmlformats.org/officeDocument/2006/relationships/slide" Target="slides/slide26.xml"/><Relationship Id="rId49" Type="http://schemas.openxmlformats.org/officeDocument/2006/relationships/slide" Target="slides/slide27.xml"/><Relationship Id="rId50" Type="http://schemas.openxmlformats.org/officeDocument/2006/relationships/slide" Target="slides/slide28.xml"/><Relationship Id="rId51" Type="http://schemas.openxmlformats.org/officeDocument/2006/relationships/slide" Target="slides/slide2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117A-C201-4A16-B242-003E372D7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6FDD-8276-496F-AB15-0E1470E95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5C5659-9FAA-4A07-810B-43F1BD47C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3D388D-E420-42DE-BDF7-98159B20F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1CE1E3-85A7-422F-B772-AB9A7FA9D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01723F-4F4E-4E13-82C3-594727E57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AE67E3-3C2E-4A7F-99A5-94D8916AC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42BF94-885A-4E03-A79A-C4BCB2077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3E0C0A-238C-4F93-8944-9519A0B5B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C0B1BA-A717-45BA-9E5E-97BDB747C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E6D567-D982-4F3B-B390-FBA91034C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559E1C-C160-42FA-9CAF-78FA3A61A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0EA9-5272-4A1B-AD80-03BBB615A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84D87C-91FF-4373-A2A1-D44B05ECF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C60D27-66B8-4C3B-9448-4F615A652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9CA64E-5F8C-4DE4-81EF-E0CD3B4CC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40A8A3-A102-4B98-A5D6-FB6B5B34A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68D13B-52D4-4701-893A-0BA88CE56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06EF3F-0027-4426-ACDB-F18FA2307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3DDA60-F398-411A-A083-476EC39A8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6842AD-E9B5-4FED-BC17-29B6BB89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42DCC4-DA29-489C-9B1C-AF75225E7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8EFD87-2FF3-4EA7-AF2D-F42B04F21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A94C-BD77-4055-B7F6-1AD1EFF8A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4A91A9-311A-46D4-AB79-167C142D4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656E834-9517-4764-85E1-422A98F34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A693ECD-4B62-456E-B908-8FFA3CE80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6216619-B2F3-4479-ABD3-6631D54D6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FE3D70B-BBA7-4446-B952-9098F95D2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6E9EA84-A407-4EC6-8A2E-3D1A1BEF8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CA473C6-C57C-46CF-B4C1-C23B9C6DC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C196FDE-DDBF-4C79-9447-22C30E22A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0FE4183-F9A1-4D44-ABE7-293D988E4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C420968-C4C6-4282-8E99-D1697E476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575CC15-1BE8-494F-B33C-D1B7EE400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D9CD6E9-60D7-45C8-B892-4FED743AA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3E3E49B-718F-4306-BBC7-4DA86F539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9E8AC1-9950-42AB-9186-42CFE3CD8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6BEAFE-0442-4DF8-B44F-35C850894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315123-3A15-482D-802A-1A65E9EA0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641FCF-142F-4311-A3A4-BF8F2C3E4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9A0128-5C72-46AB-BF69-24250EBDF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2AC388-C58E-43A1-89D8-269B33BF5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F2433B-B17A-465F-8D3F-129A32674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50FCC2-ACD3-466C-9A73-71672F7C4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29BEA7-E782-4FD5-85A6-1401365FD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CC1AFB-65EF-4453-A0F3-EDAB24A7C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C541EE-7267-4116-8FCE-44BC29B48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8984A3-AC44-4270-9473-68CF7C6A9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6DAFF1A-E5B0-485D-AEBC-EDEAB8504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0E9F7F1-CEC9-4BEC-BD41-E7C452280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A958F1C-9B18-4E5C-814F-FEDA46234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9798F10-3F7F-4BE9-8232-1848881F4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FCDD2DF-63CA-40FC-A69B-8328A84A2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AFDED69-31EA-4E4C-8F51-5380721F8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1828608-E947-45CF-91D8-8CD20BA53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DA60A03-8475-4F5B-8CB7-4E6943E3F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F601B17-0BF5-4582-8259-131D3CF90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061A4C7-A5B4-4B6D-B5E5-9F0BFD681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14BACD4-98EA-485F-9950-4C4CED9D3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813E4D4-FAEB-4990-9BD5-C6E33C410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94A0E9-F6F9-4F4C-90E0-3735199EE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364E96-F5C8-4753-B780-9CFD1E657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00643E-2EEA-440C-8571-89CEE1DE9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DCFC26-5C20-483F-9811-04C079B5E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5EFC99-F382-4CBE-B606-6A81E9DF5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773FCB-C722-4239-A9B9-5681F515E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3F5251-F8C2-41CF-A3F2-039FB33ED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84B8C2-DC18-44E1-BE8F-4F5842DB5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3635D6-9A23-49FC-BE35-4FC1FAE87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55A999-B1E4-40ED-8CD7-A7E610D8C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765CF3-CCCA-4858-8323-101F27BAF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64A07A-6513-44D7-879A-A62185299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6CC7EF-CF79-49FF-980E-3132E7D9B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EB47BE-33BE-4E6F-B438-B44A66457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37F15C-3760-4759-9F53-8CEEB7C8C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473CE4-5F41-474F-8EE2-7EE221B3B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103BA9-894E-4D7F-8843-4A37400EE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250C18-8F6B-485B-AEBC-BBF7E3E46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46FD51-0DE8-4FA6-B42F-57E9DC5C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0FF7F8-2F71-4209-BD7C-17AB77D34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660289-1423-4C06-8F86-947887C46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A37015-C4A5-4F2D-B93E-C09B2C5F1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2E35A5-DB42-431E-8B39-EFD36187B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21346A-4413-4361-B2D5-A40B18852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EFD76D-43B6-4CB3-8C19-43C8968D6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8A5425-A92E-43D6-AC50-BC0D6EF41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FAD1C8-D8FA-4ABE-A4B2-76C098EB6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70AECC-DB6A-4D63-8007-F22F4F367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C40EA9-D126-4BFF-B1D2-98DF70204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D6084D-E87F-4132-A1BB-FBB1ADEAC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D3BC16-E8A0-4436-A209-2F249E46E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8312-335F-4620-A7AF-E4D2BB0F5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0D0D4D-0611-407F-98A5-CAC57D0DB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CA22A3-FD87-46B2-9DD8-FB9088E4F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309B75-F523-4AE9-B9B4-C262BCF8A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BCB00E-5D3A-4F62-82D3-0B7E9E859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9F4F21-40B8-45A4-B54A-1E9A9D1F3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228AC2-CAB3-44C5-A415-CC8ADA350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27C1C7-3809-4757-AF6F-0CF23C33E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F1D8F8-F21E-4BBC-ADEA-7F8A98C18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1BB25C-4D8F-4563-8158-2646CEAD0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7072EB-9F40-411A-ACF3-462D5C614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F7F8ED-BBEC-4D03-A0D9-2776B3490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17FB5A-F787-40B0-81F5-1929FF0E1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64509C-5DC2-4377-B42F-E826012ED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92EDA2-8EE6-4FA7-9116-D9AA8D4DD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2D887E-4F76-401A-BCCA-09301202A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AF6DCB-6C96-4C70-8A35-182B97C3B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9BFE10-5B64-4021-9F17-7637DCF94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8603EB-9780-47EB-8852-F80C84905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325D45-301E-4F28-8095-EB97E4AA7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15C735-FF03-4B46-B421-0079CEFA3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700B18-BC70-461C-B24C-58861A218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111C36-2002-4576-BC7C-BBB933E47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A20E65-60C4-4729-AB30-E6D1106B7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839C28-FF0A-43A0-855F-CADBA5B6D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E9A50D-9DAE-463A-ACD9-8E8309786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73D1A7-ED9F-4260-B2F1-F79D88EC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156803-C703-4E3B-9CF6-1E6BCB91E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EF5327-345F-4369-9B14-A46B4D5D1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2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3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E2AD45-2B0E-4E8B-92B6-0CCD57A38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A8945B-D471-4656-8268-FF3706EF0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2A9058-DE8B-43B4-BCD3-7F933279A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CACDAB-5AEE-4BC5-8FBB-070C85A42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CCAB93-9353-43D3-9F23-0F1FEADE7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DED04A-6F61-4DD5-8E65-0256C5BF7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CD0840-8C5B-4B04-AB3D-897CFF03A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2B7EF7-0756-4A39-AA2F-8FE73349E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D6DCF3-8ED6-42C7-BA40-CE258D548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445745-C117-438F-A048-25C8F0EB3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CE682E-FBCC-4135-B4E4-1ADA9E999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E1A287-86E0-4BD2-ADAD-DD1B94071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5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6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6F97BE-D3B7-48AB-86FD-9D042EF68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A79ACA-4816-4C71-8630-77BE88A5E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A997EF-AAF8-40EC-B712-61E55935F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D6671F-F393-4E56-A038-67DD5F4FA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017E2C-49EB-487D-B3CA-4FDC05140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21F2A8-BA35-4555-969E-A346C8869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FDBCC0-6392-404A-BE60-5F53EFD38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DD0652-173F-4FAA-A37F-B4C2918D6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FDD9D5-27F6-4FE1-ACC1-09FC61C5B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7BB019-3EEF-4EC7-8479-69A09DF24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6BAF75-A236-4453-B7BF-663EEBBEF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EB8F39-DB46-49CA-9262-6A334288C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3DCE78-7023-4C71-B64D-1CB3E4E32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8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9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955107-F025-4F37-B7E2-B00E53587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344487-CA4B-425A-AE02-D8D392CC7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BEEAF7-F024-42CF-B131-984018F15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B085B7-E36C-4155-994F-62100EB15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3BC5BA-81C0-4189-8B4F-F6AC1EF1C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02F9-8F2D-491A-9285-F482EBEBD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E800C1-00FA-4394-8915-3EB1F0930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554B19-2C5B-4004-8100-3B882991B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6051F5-2777-466E-B240-512B3AF12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4B076E-82F3-4A23-8F2E-232E4CCD4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F3237D-A637-4B88-B3C4-B896660AB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DD0005-AEA8-4B51-AFFD-9AC0CC01A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1D4583-5AAF-43F4-B812-E9B7B3A09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B30EFD-9CBA-4713-A822-4DBD8133D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A85AA4-240E-4C47-AF37-7CA489E08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C0A248-8694-438D-9D77-A4ABFD6E2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0607-7FB2-4A41-8976-AFCAEA535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B6ACD7-1052-45DE-8123-98720EA54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F5720B-CA3C-4665-96CF-76FEF6892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4EA3BA-D977-4A51-B625-8D3BB93E8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F1CF0F-6E03-40CF-9D9A-748C5AE43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01C4D0-1492-4444-BCB2-F45F090A2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F5F5BE-716F-4399-A4E1-EAE8E0A54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F820CC-1FCF-4D11-BE1D-013224674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7E790F-D5BE-46B9-B451-D21AF6903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44C746-C42A-47DD-91DB-C1AEA4DE4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7E07-5158-4D59-B318-BA8B970D3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9DCA-8BFD-4306-94BC-A844C4283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EDCD2D3-6586-4EF5-A1B3-85CF3AAAA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903A5BA-251B-4D5E-B1CD-E536F939E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ABD1516-C2C0-4BC7-9CC7-4B23B36F3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E682C51-4E2A-42C6-A2DC-5BB93D98B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A32579B-959F-4987-912A-D35BF27E3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01B6F8D-9AC4-4AA5-B103-B49A6A0FD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579FE01-FD4F-4D44-82F7-ED9ECA968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3D454D3-18AB-4FB4-A81B-2268BD78E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F5EEE4C-7B81-4402-90E1-E66C1A995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989D-D400-4164-A330-0F6F26DA1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A7222F5-CAB3-43C6-A0B0-7002E241A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4F0B6D5-6131-431D-BFD0-385DED42E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CEC605C-EA78-41A6-B81F-2D8827178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2034EAE-AC60-4257-85BA-19285F78E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E89A9B8-BDE1-4B5C-B5BF-45D8078FF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6D690CD-C962-43ED-A638-A60732BDF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63EA768-2DFA-42EC-A1A9-F5B4478AF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DD68214-A187-4470-A249-3867780B5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A591C13-7379-4245-A94D-44368C6A3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00BC5C1-61D0-44AD-80BE-0E729273B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0275-64CE-4CC9-B96A-BF02B39F2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7B0A81C-8491-4E96-8925-71628C032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8820ECB-14E8-4AAA-8780-3C6DFDA25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5C55F71-3BB3-4830-AE7C-48C1C3222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27B4281-A68F-42BD-8CEA-8794C906B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74D4AED-CA37-44ED-BB80-38B718D6D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4CAE8D4-6991-455D-A445-29DCC9165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389C20E-AEC0-4926-9A13-1429FBBF6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BF97814-3936-432C-AAFD-995BF59EB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44F7C80-46BF-4AEB-908E-28196330D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74022B7-9FC1-462A-A83B-7117BAB97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5931-8656-4173-8176-11EF986F8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0B1BC36-04AF-4A52-8432-0DDAFAEFA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261C609-4EE8-4F12-BDA5-71D3A3D49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C3E0203-0671-4A7D-9F0E-8CFE54D0A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C61C592-39A2-4015-99A3-6AB52244B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18B0CF9-531C-421A-A06C-15C9FB6C0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3990979-D3EC-4A84-8D42-C1F11C190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CC00BAC-2874-4518-AB97-F7404B457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D6AD3E-994A-4955-A3D7-2F82F4B06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75C6D7-4781-4473-ABB9-42C63BF0B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EB5317-2D9A-4AE9-B547-1667DE1C5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B55FB3-CF30-4207-9E22-4788D9A4B488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EA9466-C1F9-43DB-8407-60F1E2666538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dt" idx="26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D3AF60-FB06-453C-89FD-83D310AB8787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ftr" idx="27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 type="sldNum" idx="28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E3DDB2-BDC4-4D98-AEB6-C2EC2705C4CB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29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BB2921-8CF4-4B01-8260-99BE9D4821BD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30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31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6C2D07-6E9E-4A1F-B6E6-66713A83923F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dt" idx="32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CF12C4-3808-4F95-AB84-BC6DEABCB6D5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ftr" idx="33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 type="sldNum" idx="34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A520A4-9E42-45D5-A5DC-5A288C834C24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6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5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D95A1A-C774-44BE-830A-D43A4912CBC7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6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7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C85D47-FC42-4B7A-871F-7E20C9E837F6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6"/>
          <p:cNvSpPr/>
          <p:nvPr/>
        </p:nvSpPr>
        <p:spPr>
          <a:xfrm>
            <a:off x="282600" y="228600"/>
            <a:ext cx="3451320" cy="634536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Box 7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dt" idx="38"/>
          </p:nvPr>
        </p:nvSpPr>
        <p:spPr>
          <a:xfrm>
            <a:off x="7391520" y="6423120"/>
            <a:ext cx="15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AFD4B0-9E86-42D9-AB8D-842DA7004B4B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ftr" idx="39"/>
          </p:nvPr>
        </p:nvSpPr>
        <p:spPr>
          <a:xfrm>
            <a:off x="3859200" y="6423120"/>
            <a:ext cx="3316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6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Box 7"/>
          <p:cNvSpPr/>
          <p:nvPr/>
        </p:nvSpPr>
        <p:spPr>
          <a:xfrm>
            <a:off x="3989520" y="3370320"/>
            <a:ext cx="22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b870b8"/>
                </a:solidFill>
                <a:latin typeface="Rockwell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0"/>
          </p:nvPr>
        </p:nvSpPr>
        <p:spPr>
          <a:xfrm>
            <a:off x="7391520" y="6423120"/>
            <a:ext cx="15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E6A75F-3A0E-41E1-A3B0-BF8A15FF109E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1"/>
          </p:nvPr>
        </p:nvSpPr>
        <p:spPr>
          <a:xfrm>
            <a:off x="4190760" y="6423120"/>
            <a:ext cx="3004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2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D9128A-4F3C-4CF7-8640-5ADE2BD39E9C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6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7"/>
          <p:cNvSpPr/>
          <p:nvPr/>
        </p:nvSpPr>
        <p:spPr>
          <a:xfrm>
            <a:off x="6802560" y="2378160"/>
            <a:ext cx="2057400" cy="203832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Box 8"/>
          <p:cNvSpPr/>
          <p:nvPr/>
        </p:nvSpPr>
        <p:spPr>
          <a:xfrm>
            <a:off x="326880" y="4632480"/>
            <a:ext cx="22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b870b8"/>
                </a:solidFill>
                <a:latin typeface="Rockwell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3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535D8F-4E6F-4A9C-BC94-D8D699AA9181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4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5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A34524-5D33-4D1B-8656-30F05AC3A39F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6"/>
          <p:cNvSpPr/>
          <p:nvPr/>
        </p:nvSpPr>
        <p:spPr>
          <a:xfrm>
            <a:off x="282600" y="228600"/>
            <a:ext cx="6386400" cy="634536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Box 7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8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6"/>
          </p:nvPr>
        </p:nvSpPr>
        <p:spPr>
          <a:xfrm>
            <a:off x="5211720" y="6235200"/>
            <a:ext cx="1349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7B3F4E-6886-40EE-81C2-B519E62C2F30}" type="datetime">
              <a:rPr b="0" lang="en-US" sz="1100" spc="-1" strike="noStrike">
                <a:solidFill>
                  <a:srgbClr val="ffffff"/>
                </a:solidFill>
                <a:latin typeface="Rockwell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47"/>
          </p:nvPr>
        </p:nvSpPr>
        <p:spPr>
          <a:xfrm>
            <a:off x="380880" y="6235200"/>
            <a:ext cx="4648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48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3B5633-D770-431C-8F26-63D46C29FA70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6"/>
          <p:cNvSpPr/>
          <p:nvPr/>
        </p:nvSpPr>
        <p:spPr>
          <a:xfrm>
            <a:off x="282600" y="228600"/>
            <a:ext cx="4235400" cy="634536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Box 7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8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9"/>
          <p:cNvSpPr/>
          <p:nvPr/>
        </p:nvSpPr>
        <p:spPr>
          <a:xfrm>
            <a:off x="4624560" y="4535640"/>
            <a:ext cx="2057400" cy="203832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9"/>
          </p:nvPr>
        </p:nvSpPr>
        <p:spPr>
          <a:xfrm>
            <a:off x="3048120" y="6235200"/>
            <a:ext cx="1347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9B69B4-BAEC-4868-B751-26E7FEA3B095}" type="datetime">
              <a:rPr b="0" lang="en-US" sz="1100" spc="-1" strike="noStrike">
                <a:solidFill>
                  <a:srgbClr val="ffffff"/>
                </a:solidFill>
                <a:latin typeface="Rockwell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0"/>
          </p:nvPr>
        </p:nvSpPr>
        <p:spPr>
          <a:xfrm>
            <a:off x="380520" y="6235200"/>
            <a:ext cx="259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1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E18CCA-8CFE-43FC-9331-F3F6D26DD1C2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6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Box 7"/>
          <p:cNvSpPr/>
          <p:nvPr/>
        </p:nvSpPr>
        <p:spPr>
          <a:xfrm>
            <a:off x="4749840" y="3370320"/>
            <a:ext cx="22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b870b8"/>
                </a:solidFill>
                <a:latin typeface="Rockwell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 type="dt" idx="52"/>
          </p:nvPr>
        </p:nvSpPr>
        <p:spPr>
          <a:xfrm>
            <a:off x="7391520" y="6423120"/>
            <a:ext cx="15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24205A-A379-4AEF-8F37-BA01D478A0D2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 type="ftr" idx="53"/>
          </p:nvPr>
        </p:nvSpPr>
        <p:spPr>
          <a:xfrm>
            <a:off x="4190760" y="6423120"/>
            <a:ext cx="3004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 type="sldNum" idx="54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E2E933-B689-47B8-B413-FF98C2C638F1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282600" y="228600"/>
            <a:ext cx="4235400" cy="41878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4624560" y="2378160"/>
            <a:ext cx="2057400" cy="203832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9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4624560" y="228600"/>
            <a:ext cx="2057400" cy="2038320"/>
          </a:xfrm>
          <a:prstGeom prst="rect">
            <a:avLst/>
          </a:prstGeom>
          <a:solidFill>
            <a:srgbClr val="a3a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6802560" y="2378160"/>
            <a:ext cx="2057400" cy="2038320"/>
          </a:xfrm>
          <a:prstGeom prst="rect">
            <a:avLst/>
          </a:prstGeom>
          <a:solidFill>
            <a:srgbClr val="330f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800600" y="6426360"/>
            <a:ext cx="123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36DA7A-7F33-4BA4-8E41-8B15880A1922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311520" y="6426360"/>
            <a:ext cx="261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 type="dt" idx="55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7FAEB1-52B7-4DAA-A871-9B70D829629D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 type="ftr" idx="56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 type="sldNum" idx="57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75EED9-0B53-4A55-8DB5-90F0EE3DAE87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6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Box 7"/>
          <p:cNvSpPr/>
          <p:nvPr/>
        </p:nvSpPr>
        <p:spPr>
          <a:xfrm rot="16200000">
            <a:off x="8591400" y="5634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 type="dt" idx="58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2D46C9-7467-434F-A4D1-1B41ED56CEF7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 type="ftr" idx="59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 type="sldNum" idx="60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EA20DA-C960-4F1E-A2AA-9FB6025CFAC6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6"/>
          <p:cNvSpPr/>
          <p:nvPr/>
        </p:nvSpPr>
        <p:spPr>
          <a:xfrm>
            <a:off x="8210520" y="282600"/>
            <a:ext cx="64152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8067600" y="282600"/>
            <a:ext cx="92160" cy="16002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6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9AA56F-40BA-4125-BB01-AED18BDDCCD9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7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8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E9A14B-4EC3-44F0-A108-3A8F3E0DD15B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9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EDDE5A-46AF-47F5-9E31-325A426C34F0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0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1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CB10F9-C3F3-4429-8731-437FEA213B4C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282600" y="228600"/>
            <a:ext cx="4235400" cy="41878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4624560" y="2378160"/>
            <a:ext cx="2057400" cy="203832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9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2"/>
          </p:nvPr>
        </p:nvSpPr>
        <p:spPr>
          <a:xfrm>
            <a:off x="4800600" y="6426360"/>
            <a:ext cx="123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7B91C3-1A7B-43C3-A59C-02AA9DB11A62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3"/>
          </p:nvPr>
        </p:nvSpPr>
        <p:spPr>
          <a:xfrm>
            <a:off x="6311520" y="6426360"/>
            <a:ext cx="261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6"/>
          <p:cNvSpPr/>
          <p:nvPr/>
        </p:nvSpPr>
        <p:spPr>
          <a:xfrm>
            <a:off x="658800" y="228600"/>
            <a:ext cx="8201160" cy="634536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7"/>
          <p:cNvSpPr/>
          <p:nvPr/>
        </p:nvSpPr>
        <p:spPr>
          <a:xfrm>
            <a:off x="2003400" y="3111480"/>
            <a:ext cx="260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8"/>
          <p:cNvSpPr/>
          <p:nvPr/>
        </p:nvSpPr>
        <p:spPr>
          <a:xfrm>
            <a:off x="285840" y="228600"/>
            <a:ext cx="212760" cy="634536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4"/>
          </p:nvPr>
        </p:nvSpPr>
        <p:spPr>
          <a:xfrm>
            <a:off x="658440" y="6248520"/>
            <a:ext cx="1474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2987BD-1A1D-4CE5-B7B0-B321E7355A5B}" type="datetime">
              <a:rPr b="0" lang="en-US" sz="1100" spc="-1" strike="noStrike">
                <a:solidFill>
                  <a:srgbClr val="ffffff"/>
                </a:solidFill>
                <a:latin typeface="Rockwell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5"/>
          </p:nvPr>
        </p:nvSpPr>
        <p:spPr>
          <a:xfrm>
            <a:off x="2285640" y="6248520"/>
            <a:ext cx="5638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6"/>
          </p:nvPr>
        </p:nvSpPr>
        <p:spPr>
          <a:xfrm>
            <a:off x="8305560" y="624852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639EC8-B8CC-4A83-8638-B065BCEB5200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6"/>
          <p:cNvSpPr/>
          <p:nvPr/>
        </p:nvSpPr>
        <p:spPr>
          <a:xfrm>
            <a:off x="8210520" y="282600"/>
            <a:ext cx="64152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8067600" y="282600"/>
            <a:ext cx="92160" cy="16002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8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7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95F046-9D99-46BB-B4A0-2219359EBA69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8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19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183ED8-6111-41E3-8B72-5B193036CBB1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0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E4711A-9DD6-4FB6-901F-E518F2B4F179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1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2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6B1E34-1317-4D77-BD61-41F924965A9C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Box 6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23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F189E8-5763-4C47-9080-5278FBAC1702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ftr" idx="24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sldNum" idx="25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1CB040-530A-4B20-B588-46355021E39E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Get out a sheet of notebook paper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Do Now – WRITE the date, the objective, and this do now down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11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595959"/>
                </a:solidFill>
                <a:latin typeface="Rockwell"/>
              </a:rPr>
              <a:t>What is an organism?</a:t>
            </a:r>
            <a:endParaRPr b="0" lang="en-US" sz="76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Review 5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28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95959"/>
                </a:solidFill>
                <a:latin typeface="Rockwell"/>
              </a:rPr>
              <a:t>What are the goals of all living things?</a:t>
            </a:r>
            <a:endParaRPr b="0" lang="en-US" sz="60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Review 6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95959"/>
                </a:solidFill>
                <a:latin typeface="Rockwell"/>
              </a:rPr>
              <a:t>What is growth?</a:t>
            </a:r>
            <a:endParaRPr b="0" lang="en-US" sz="60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Review 7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32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95959"/>
                </a:solidFill>
                <a:latin typeface="Rockwell"/>
              </a:rPr>
              <a:t>What are offspring?</a:t>
            </a:r>
            <a:endParaRPr b="0" lang="en-US" sz="60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Needs vs. wants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34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595959"/>
                </a:solidFill>
                <a:latin typeface="Rockwell"/>
              </a:rPr>
              <a:t>What is the difference between what we want and what we need?</a:t>
            </a:r>
            <a:endParaRPr b="0" lang="en-US" sz="62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ass Pet Scenario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498600" y="1209240"/>
            <a:ext cx="755640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595959"/>
                </a:solidFill>
                <a:latin typeface="Rockwell"/>
              </a:rPr>
              <a:t>If we decided to get a class pet such as a fish, what would it need?</a:t>
            </a:r>
            <a:endParaRPr b="0" lang="en-US" sz="56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Remember to put your Name, Date, and Class Period at the top of your paper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38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 u="sng">
                <a:solidFill>
                  <a:srgbClr val="595959"/>
                </a:solidFill>
                <a:uFillTx/>
                <a:latin typeface="Rockwell"/>
              </a:rPr>
              <a:t>1.2 Organism’s Needs: Class Notes</a:t>
            </a:r>
            <a:endParaRPr b="0" lang="en-US" sz="64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Organism’s Needs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40" name=""/>
          <p:cNvSpPr txBox="1"/>
          <p:nvPr/>
        </p:nvSpPr>
        <p:spPr>
          <a:xfrm>
            <a:off x="284040" y="1599840"/>
            <a:ext cx="8337600" cy="48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 u="sng">
                <a:solidFill>
                  <a:srgbClr val="595959"/>
                </a:solidFill>
                <a:uFillTx/>
                <a:latin typeface="Rockwell"/>
              </a:rPr>
              <a:t>Organisms need food, water, living space, and stable internal conditions to survive.</a:t>
            </a:r>
            <a:endParaRPr b="0" lang="en-US" sz="6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Habit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42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 u="sng">
                <a:solidFill>
                  <a:srgbClr val="595959"/>
                </a:solidFill>
                <a:uFillTx/>
                <a:latin typeface="Rockwell"/>
              </a:rPr>
              <a:t>A habitat is where an organism lives.</a:t>
            </a:r>
            <a:endParaRPr b="0" lang="en-US" sz="7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595959"/>
                </a:solidFill>
                <a:latin typeface="Rockwell"/>
              </a:rPr>
              <a:t>So, for our imaginary class fish, its habitat would be its fish bowl.</a:t>
            </a:r>
            <a:endParaRPr b="0" lang="en-US" sz="47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Let’s Practice…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595959"/>
                </a:solidFill>
                <a:latin typeface="Rockwell"/>
              </a:rPr>
              <a:t>What are the 4 things an organism needs to survive?</a:t>
            </a:r>
            <a:endParaRPr b="0" lang="en-US" sz="62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800600" y="4624560"/>
            <a:ext cx="4038480" cy="93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66"/>
                </a:solidFill>
                <a:latin typeface="Rockwell"/>
              </a:rPr>
              <a:t>1.2 Organisms’ Needs</a:t>
            </a:r>
            <a:endParaRPr b="0" lang="en-US" sz="2800" spc="-1" strike="noStrike">
              <a:solidFill>
                <a:srgbClr val="663366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Let’s Practice…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595959"/>
                </a:solidFill>
                <a:latin typeface="Rockwell"/>
              </a:rPr>
              <a:t>What is a habitat?</a:t>
            </a:r>
            <a:endParaRPr b="0" lang="en-US" sz="62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Homeostasis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49" name=""/>
          <p:cNvSpPr txBox="1"/>
          <p:nvPr/>
        </p:nvSpPr>
        <p:spPr>
          <a:xfrm>
            <a:off x="267840" y="1374840"/>
            <a:ext cx="866628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219240">
              <a:lnSpc>
                <a:spcPct val="90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595959"/>
                </a:solidFill>
                <a:uFillTx/>
                <a:latin typeface="Rockwell"/>
              </a:rPr>
              <a:t>Homeostasis is the process of maintaining internal conditions despite changes in the environment – that means everything inside an organism stays the same.</a:t>
            </a:r>
            <a:endParaRPr b="0" lang="en-US" sz="5000" spc="-1" strike="noStrike">
              <a:solidFill>
                <a:srgbClr val="595959"/>
              </a:solidFill>
              <a:latin typeface="Rockwell"/>
            </a:endParaRPr>
          </a:p>
          <a:p>
            <a:pPr marL="219240" indent="-219240">
              <a:lnSpc>
                <a:spcPct val="90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Homeostasis 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498240" y="1981080"/>
            <a:ext cx="83026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12400" indent="-2124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100" spc="-1" strike="noStrike" u="sng">
                <a:solidFill>
                  <a:srgbClr val="595959"/>
                </a:solidFill>
                <a:uFillTx/>
                <a:latin typeface="Rockwell"/>
              </a:rPr>
              <a:t>Examples of homeostasis include sweating, shivering, and breathing </a:t>
            </a:r>
            <a:endParaRPr b="0" lang="en-US" sz="61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Let’s Practice…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595959"/>
                </a:solidFill>
                <a:latin typeface="Rockwell"/>
              </a:rPr>
              <a:t>What is homeostasis?</a:t>
            </a:r>
            <a:endParaRPr b="0" lang="en-US" sz="59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Let’s Practice…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55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595959"/>
                </a:solidFill>
                <a:latin typeface="Rockwell"/>
              </a:rPr>
              <a:t>What is one example of homeostasis?</a:t>
            </a:r>
            <a:endParaRPr b="0" lang="en-US" sz="59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Let’s Practice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498600" y="1168200"/>
            <a:ext cx="7556400" cy="41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12400" indent="-2124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595959"/>
                </a:solidFill>
                <a:latin typeface="Rockwell"/>
              </a:rPr>
              <a:t>“</a:t>
            </a:r>
            <a:r>
              <a:rPr b="0" lang="en-US" sz="3700" spc="-1" strike="noStrike">
                <a:solidFill>
                  <a:srgbClr val="595959"/>
                </a:solidFill>
                <a:latin typeface="Rockwell"/>
              </a:rPr>
              <a:t>Tiger salamanders live in burrows below the surface, near ponds, lakes, or slow-moving streams and are one of few salamanders able to survive in the arid climate of the North America interior” refers to the salamanders’ _______________?  </a:t>
            </a:r>
            <a:endParaRPr b="0" lang="en-US" sz="37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Let’s Practice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959"/>
                </a:solidFill>
                <a:latin typeface="Rockwell"/>
              </a:rPr>
              <a:t>“</a:t>
            </a:r>
            <a:r>
              <a:rPr b="0" lang="en-US" sz="4400" spc="-1" strike="noStrike">
                <a:solidFill>
                  <a:srgbClr val="595959"/>
                </a:solidFill>
                <a:latin typeface="Rockwell"/>
              </a:rPr>
              <a:t>Pelicans are found on many of the world's coastlines and also along lakes and rivers” refers to the Pelican’s ____________.</a:t>
            </a:r>
            <a:endParaRPr b="0" lang="en-US" sz="44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Let’s Practice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61" name=""/>
          <p:cNvSpPr txBox="1"/>
          <p:nvPr/>
        </p:nvSpPr>
        <p:spPr>
          <a:xfrm>
            <a:off x="330120" y="1355760"/>
            <a:ext cx="83440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196560" indent="-19656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959"/>
                </a:solidFill>
                <a:latin typeface="Rockwell"/>
              </a:rPr>
              <a:t>“</a:t>
            </a:r>
            <a:r>
              <a:rPr b="0" lang="en-US" sz="4400" spc="-1" strike="noStrike">
                <a:solidFill>
                  <a:srgbClr val="595959"/>
                </a:solidFill>
                <a:latin typeface="Rockwell"/>
              </a:rPr>
              <a:t>Elephants have a longer pregnancy than any other mammal—almost 22 months. Female Elephants usually give birth to one calf every two to four years.” In this passage, what is the elephants offspring called? </a:t>
            </a:r>
            <a:endParaRPr b="0" lang="en-US" sz="4400" spc="-1" strike="noStrike">
              <a:solidFill>
                <a:srgbClr val="595959"/>
              </a:solidFill>
              <a:latin typeface="Rockwell"/>
            </a:endParaRPr>
          </a:p>
          <a:p>
            <a:pPr marL="196560" indent="-19656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Independent Practice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595959"/>
                </a:solidFill>
                <a:latin typeface="Rockwell"/>
              </a:rPr>
              <a:t>Silently complete the handout.</a:t>
            </a:r>
            <a:endParaRPr b="0" lang="en-US" sz="65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Journal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Agenda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14" name=""/>
          <p:cNvSpPr txBox="1"/>
          <p:nvPr/>
        </p:nvSpPr>
        <p:spPr>
          <a:xfrm>
            <a:off x="498600" y="1355760"/>
            <a:ext cx="7556400" cy="55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663366"/>
              </a:buClr>
              <a:buSzPct val="75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595959"/>
                </a:solidFill>
                <a:latin typeface="Rockwell"/>
              </a:rPr>
              <a:t>Do Now</a:t>
            </a:r>
            <a:endParaRPr b="0" lang="en-US" sz="3500" spc="-1" strike="noStrike">
              <a:solidFill>
                <a:srgbClr val="595959"/>
              </a:solidFill>
              <a:latin typeface="Rockwell"/>
            </a:endParaRPr>
          </a:p>
          <a:p>
            <a:pPr marL="457200" indent="-457200">
              <a:spcBef>
                <a:spcPts val="2001"/>
              </a:spcBef>
              <a:buClr>
                <a:srgbClr val="663366"/>
              </a:buClr>
              <a:buSzPct val="75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595959"/>
                </a:solidFill>
                <a:latin typeface="Rockwell"/>
              </a:rPr>
              <a:t>Homework Check</a:t>
            </a:r>
            <a:endParaRPr b="0" lang="en-US" sz="3500" spc="-1" strike="noStrike">
              <a:solidFill>
                <a:srgbClr val="595959"/>
              </a:solidFill>
              <a:latin typeface="Rockwell"/>
            </a:endParaRPr>
          </a:p>
          <a:p>
            <a:pPr marL="457200" indent="-457200">
              <a:spcBef>
                <a:spcPts val="2001"/>
              </a:spcBef>
              <a:buClr>
                <a:srgbClr val="663366"/>
              </a:buClr>
              <a:buSzPct val="75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595959"/>
                </a:solidFill>
                <a:latin typeface="Rockwell"/>
              </a:rPr>
              <a:t>Review </a:t>
            </a:r>
            <a:endParaRPr b="0" lang="en-US" sz="3500" spc="-1" strike="noStrike">
              <a:solidFill>
                <a:srgbClr val="595959"/>
              </a:solidFill>
              <a:latin typeface="Rockwell"/>
            </a:endParaRPr>
          </a:p>
          <a:p>
            <a:pPr marL="457200" indent="-457200">
              <a:spcBef>
                <a:spcPts val="2001"/>
              </a:spcBef>
              <a:buClr>
                <a:srgbClr val="663366"/>
              </a:buClr>
              <a:buSzPct val="75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595959"/>
                </a:solidFill>
                <a:latin typeface="Rockwell"/>
              </a:rPr>
              <a:t>Notes</a:t>
            </a:r>
            <a:endParaRPr b="0" lang="en-US" sz="3500" spc="-1" strike="noStrike">
              <a:solidFill>
                <a:srgbClr val="595959"/>
              </a:solidFill>
              <a:latin typeface="Rockwell"/>
            </a:endParaRPr>
          </a:p>
          <a:p>
            <a:pPr marL="457200" indent="-457200">
              <a:spcBef>
                <a:spcPts val="2001"/>
              </a:spcBef>
              <a:buClr>
                <a:srgbClr val="663366"/>
              </a:buClr>
              <a:buSzPct val="75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595959"/>
                </a:solidFill>
                <a:latin typeface="Rockwell"/>
              </a:rPr>
              <a:t>Practice</a:t>
            </a:r>
            <a:endParaRPr b="0" lang="en-US" sz="3500" spc="-1" strike="noStrike">
              <a:solidFill>
                <a:srgbClr val="595959"/>
              </a:solidFill>
              <a:latin typeface="Rockwell"/>
            </a:endParaRPr>
          </a:p>
          <a:p>
            <a:pPr marL="457200" indent="-457200">
              <a:spcBef>
                <a:spcPts val="2001"/>
              </a:spcBef>
              <a:buClr>
                <a:srgbClr val="663366"/>
              </a:buClr>
              <a:buSzPct val="75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595959"/>
                </a:solidFill>
                <a:latin typeface="Rockwell"/>
              </a:rPr>
              <a:t>Journal</a:t>
            </a:r>
            <a:endParaRPr b="0" lang="en-US" sz="35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Binders (pass back papers, binders, markers, tabs)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16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959"/>
                </a:solidFill>
                <a:latin typeface="Rockwell"/>
              </a:rPr>
              <a:t>Journal</a:t>
            </a:r>
            <a:endParaRPr b="0" lang="en-US" sz="4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959"/>
                </a:solidFill>
                <a:latin typeface="Rockwell"/>
              </a:rPr>
              <a:t>Classwork</a:t>
            </a:r>
            <a:endParaRPr b="0" lang="en-US" sz="4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959"/>
                </a:solidFill>
                <a:latin typeface="Rockwell"/>
              </a:rPr>
              <a:t>Study Aids</a:t>
            </a:r>
            <a:endParaRPr b="0" lang="en-US" sz="4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959"/>
                </a:solidFill>
                <a:latin typeface="Rockwell"/>
              </a:rPr>
              <a:t>Homework</a:t>
            </a:r>
            <a:endParaRPr b="0" lang="en-US" sz="44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Homework Check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498600" y="1622160"/>
            <a:ext cx="7927920" cy="50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959"/>
                </a:solidFill>
                <a:latin typeface="Rockwell"/>
              </a:rPr>
              <a:t>Put your homework in the homework section of your binder.  Look at your paper and check your answers as we review them.  Put a √ for correct and an x for incorrect.</a:t>
            </a:r>
            <a:endParaRPr b="0" lang="en-US" sz="44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Review 1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595959"/>
                </a:solidFill>
                <a:latin typeface="Rockwell"/>
              </a:rPr>
              <a:t>What are our 3 class rules?</a:t>
            </a:r>
            <a:endParaRPr b="0" lang="en-US" sz="57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Review 2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28600" indent="-228600" algn="ctr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595959"/>
                </a:solidFill>
                <a:latin typeface="Rockwell"/>
              </a:rPr>
              <a:t>What are living things made of?</a:t>
            </a:r>
            <a:endParaRPr b="0" lang="en-US" sz="72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Review 3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28600" indent="-228600" algn="ctr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595959"/>
                </a:solidFill>
                <a:latin typeface="Rockwell"/>
              </a:rPr>
              <a:t>Can all living things move?</a:t>
            </a:r>
            <a:endParaRPr b="0" lang="en-US" sz="72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Review 4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26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28600" indent="-228600" algn="ctr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595959"/>
                </a:solidFill>
                <a:latin typeface="Rockwell"/>
              </a:rPr>
              <a:t>What is one example of a living thing?</a:t>
            </a:r>
            <a:endParaRPr b="0" lang="en-US" sz="72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2T13:46:52Z</dcterms:created>
  <dc:creator>Caroline Roth</dc:creator>
  <dc:description/>
  <dc:language>en-US</dc:language>
  <cp:lastModifiedBy>Caroline Roth</cp:lastModifiedBy>
  <dcterms:modified xsi:type="dcterms:W3CDTF">2011-05-23T04:20:57Z</dcterms:modified>
  <cp:revision>12</cp:revision>
  <dc:subject/>
  <dc:title>Do Now – WRITE the date, the objective, and this do now down</dc:title>
</cp:coreProperties>
</file>